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B41F-0D64-4266-942A-7EA9FFA3A9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292-9F01-4B1A-86DE-38038373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BFA-A0D7-43D6-8B83-DF95192D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D65-C540-48EF-BE99-D418EBBA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985-8E39-4EC7-ADF4-4F5B3775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B47-EE9F-4095-9A31-42CD73D8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154-3759-42D2-9017-9504CA88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E77-5DB4-43E9-ACFC-218F763B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381-FAE5-4BBE-8B37-2B1794F6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452-C0A5-4E45-9145-A7D41C66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501-DB9D-4A9D-AF1E-B712C882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3EB-66E3-472C-B728-CF1EF71C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5B9-8DB5-4E0B-BD4D-C573E752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6C58-BCCE-4D58-AC3F-FE7A7BE8C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1992-11-23"/>
          <p:cNvPicPr/>
          <p:nvPr/>
        </p:nvPicPr>
        <p:blipFill>
          <a:blip r:embed="rId1"/>
          <a:srcRect l="0" t="5114" r="0" b="5114"/>
          <a:stretch/>
        </p:blipFill>
        <p:spPr>
          <a:xfrm>
            <a:off x="2700360" y="2637000"/>
            <a:ext cx="3525840" cy="4221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788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042920" y="4653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859280" y="342900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600" cy="5332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of digestive juice 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gestive juice produ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m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e (breaks down big fat droplets into little fat dropl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t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Intest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al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788000" y="184464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042920" y="465300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859280" y="3429000"/>
            <a:ext cx="223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 (proteas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glucos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amy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908000" y="249228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050920" y="19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mouth-open-huge307x379"/>
          <p:cNvPicPr/>
          <p:nvPr/>
        </p:nvPicPr>
        <p:blipFill>
          <a:blip r:embed="rId1"/>
          <a:stretch/>
        </p:blipFill>
        <p:spPr>
          <a:xfrm>
            <a:off x="6775560" y="0"/>
            <a:ext cx="2368440" cy="2924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amino acid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prot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979640" y="314172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6836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stomach"/>
          <p:cNvPicPr/>
          <p:nvPr/>
        </p:nvPicPr>
        <p:blipFill>
          <a:blip r:embed="rId1"/>
          <a:stretch/>
        </p:blipFill>
        <p:spPr>
          <a:xfrm>
            <a:off x="6276960" y="0"/>
            <a:ext cx="2867040" cy="2390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403280" y="314172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0328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50312108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1971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8360" y="1989000"/>
            <a:ext cx="2736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66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35280" y="3284640"/>
            <a:ext cx="27370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Starch is a large carbohydrate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580000" y="198900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ats are made up of smaller units called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414972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oteins are made up of one or more glucose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651640" y="458136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Starch molecules can be broken down by amyl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908000" y="551664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Proteins are important for the growth and repair o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limentary cana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(or gut) is the tube within the body through which food passes and is processed in various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DA40_1"/>
          <p:cNvPicPr/>
          <p:nvPr/>
        </p:nvPicPr>
        <p:blipFill>
          <a:blip r:embed="rId1"/>
          <a:stretch/>
        </p:blipFill>
        <p:spPr>
          <a:xfrm>
            <a:off x="154764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 flipV="1">
            <a:off x="3059280" y="1557000"/>
            <a:ext cx="144144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2771640" y="981000"/>
            <a:ext cx="13701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2771640" y="2637000"/>
            <a:ext cx="201780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2556000" y="3789360"/>
            <a:ext cx="151272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3132000" y="4292640"/>
            <a:ext cx="144144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2627280" y="4076280"/>
            <a:ext cx="252108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3348000" y="472392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3419640" y="530028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V="1">
            <a:off x="3419640" y="6237360"/>
            <a:ext cx="14414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835280" y="549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1187280" y="191628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alivary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133200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esopha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1763640" y="364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476360" y="422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2050920" y="4508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1476360" y="49417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rge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619280" y="544500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all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2627280" y="623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10357m30355344-9190-45c7-9cdc-c591f8b17bb5"/>
          <p:cNvPicPr/>
          <p:nvPr/>
        </p:nvPicPr>
        <p:blipFill>
          <a:blip r:embed="rId1"/>
          <a:stretch/>
        </p:blipFill>
        <p:spPr>
          <a:xfrm>
            <a:off x="539640" y="1197000"/>
            <a:ext cx="5226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116000" y="5805360"/>
            <a:ext cx="1655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708360" y="5877000"/>
            <a:ext cx="194328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716360" y="5084640"/>
            <a:ext cx="1943280" cy="98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971640" y="580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284720" y="5084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564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6227640" y="2708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Saliva is mixed with food during ch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227640" y="148428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Teeth assist the mechanical breakdow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156360" y="371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Comic Sans MS"/>
              </a:rPr>
              <a:t>Saliva contains the enzyme amylase which starts the digestio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156360" y="522936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Comic Sans MS"/>
              </a:rPr>
              <a:t>Saliva contains mucus that keeps the mouth moist and lubricates food for easier swa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7380360" y="2276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7380360" y="3357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7380360" y="4653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20:46:45Z</dcterms:created>
  <dc:creator>Carol Crawford</dc:creator>
  <dc:description/>
  <dc:language>en-US</dc:language>
  <cp:lastModifiedBy>LEGION2</cp:lastModifiedBy>
  <dcterms:modified xsi:type="dcterms:W3CDTF">2016-01-13T13:13:02Z</dcterms:modified>
  <cp:revision>17</cp:revision>
  <dc:subject/>
  <dc:title>Alimentary Canal</dc:title>
</cp:coreProperties>
</file>